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DBA-5DCE-4B9D-B98E-8143376A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C76-B28A-4B4A-AAE1-120A8D8D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83B-0713-42CF-B379-249BB6FE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DC6-B795-48F9-92CD-F32F2498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315-1207-4B21-81BD-CCD42051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DAA-52BA-49DE-ADFE-A8F07BAC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0BE-4CA3-4936-846F-E5779FAC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0FD-29E0-4EA6-B8BE-BB005A0B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72C-CF27-459A-9A22-8F91FE28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420-A97A-41A5-BD64-6DA57F53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74D-CB39-4E50-9DE2-661585E0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FC8-C762-4A09-8B8A-4BCC815A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05B6-1066-4B95-9110-21FD45FBA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3/Coarctation_and_PDA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RAX CASE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ob Hummel, Ruth Wei, and Rishi J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Symptoms and Find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low to head is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low to upper extremities is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low to descending aorta and lower extremities may be dim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arctation distal to takeoff of the left subclavian artery, the systolic pressure in the arms is greater than that in the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pulse is difficult to pal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uctal C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ing of the aorta is proximal to the ductus arteriosus causing decreased blood flow to the lowe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during fetal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cardiac anomaly decreases blood flow through the left side of the heart and aortic isthmus leading to hypoplastic development of the a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uct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ve Heart Failure shortly after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cyanosis if the ductus arteriosus remain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half of the body is perfused with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half of the body appears cyan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sion detected in the upper extremities and pressure reduced in the lower extrem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ductal C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postna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y due to some of the tissue from ductus arteriosus extending into the aorta during fet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iction of aorta occurs just after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duct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ajority of newborns, the obstruction is not severe and these patients grow and mature norm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fect is severe the newborn develops CHF from pressure over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the first weeks of life the infants present with tachypnea, dyspnea, tachycardia and hepatomeg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ion of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arctation was not severe enough to lead to significant clinical manifestations at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uspect that the coarctation is postductus because there is no cya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suspect that the ductus arteriosus is open because this would explain the associated respiratory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 – Postductal with P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ventricular hypertrophy would result as the LV works harder to overcome the high pressure caused by the constriction of the a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ressure forces some blood to enter pulmonary trunk through ductus arteriosus thus elevating pulmonary vascular pressure (vascular mark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V must work harder to pump blood into the high pressure pulmonary vascu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ion of Symptom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Eventually the left ventricle can’t pump blood out of the LA, blood can back up into the lungs leading to left-sided heart fail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hen this occurs, the lungs become congested with fluid (called pulmonary edema) resulting in difficulty brea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Eventually, this interferes with the movement of oxygen from the lungs into the bloodstream causing fatigue explaining the respiratory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7-week-old term female infant presents with wheezing and coug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rat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 (Normal=30-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ressur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/85 (left a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/85 (right a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/40 (left l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/40 (right leg), (Normal=90/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satur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6% on room 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ed Pu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ed Respirator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pancy between BP of upper and lower extremities bilater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ant was fussy, though consolable, with moderate respiratory distres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as non-toxic in appearan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ungs had diffuse wheezes and crackles bilateral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sounds were difficult to auscultate due to the noisy breathing, but no obvious loud pathologic murmur was hear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ver edge was palpated 3-4 cm below the right costal margin (normal=1cm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moral pulses were difficult to palp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Present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 was placed on supplemental oxygen and a chest x-ray and EKG were obtain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st x-ray show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diomeg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possib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pulmonary vascular mark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ent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gestive heart failure (CHF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 EKG show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-ventricular hypertrop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monary vascular mark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ulmonary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diomeg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nlarged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patomeg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nlarged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distinguishing features of this CH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in blood pressure between upper and lower extremity (esp, femoral pulses were difficult to palp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oxic appearance - Absence of cya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bvious murm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CHD correlates with these symptom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rctation of Aor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physiological narrowing of the aortic lumen, usually near the ductus arterio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2 types of coarctation of aort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Image:Coarctation and PDA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0"/>
            <a:ext cx="63291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2:01:38Z</dcterms:created>
  <dc:creator>rjain</dc:creator>
  <dc:description/>
  <dc:language>en-US</dc:language>
  <cp:lastModifiedBy>rjain</cp:lastModifiedBy>
  <dcterms:modified xsi:type="dcterms:W3CDTF">2007-12-10T03:31:49Z</dcterms:modified>
  <cp:revision>4</cp:revision>
  <dc:subject/>
  <dc:title>THORAX CASE #4</dc:title>
</cp:coreProperties>
</file>